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90B1-E5AA-46EF-B1C0-C6AA584CFCC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58EC-975B-46D0-9499-FBDDF15A025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02A-E142-42DA-B390-B62542A0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03F-F9C0-4F76-B554-F38A2FE1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50E-6AA5-4459-9B7D-E04F27A8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37A-0DBA-43BC-A2C3-E9927562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890-9ED5-4FE9-952B-A8D41957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DDF-6434-4DD0-ACE8-E1CFCF4A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F75-BD0B-4A70-8E1F-01CF57B5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89C-15BF-470C-AC4E-0DB9D9F3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2229-F951-40D8-A6FC-D18D26CB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74F-9535-41C0-885F-B7938FA6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4D4-11B5-497D-8AB3-9F7C4F83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62D-1E11-44FE-BE6B-1371FC91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A3BF-FE20-42B1-B09D-F5ECA961118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572314"/>
                </a:solidFill>
                <a:latin typeface="Calibri"/>
                <a:ea typeface="Arial"/>
              </a:rPr>
              <a:t>Taller 2 CI4301- Uso de suelos y EOD 2001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371600" y="533160"/>
            <a:ext cx="7499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80720" indent="-180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0720" indent="-180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0720" indent="-180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Objetivo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667440" indent="-155160">
              <a:spcBef>
                <a:spcPts val="451"/>
              </a:spcBef>
              <a:spcAft>
                <a:spcPts val="601"/>
              </a:spcAft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ill Sans MT"/>
              </a:rPr>
              <a:t>Utilizar en forma práctica los conceptos de uso de suelo revisados en clas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667440" indent="-155160">
              <a:spcBef>
                <a:spcPts val="451"/>
              </a:spcBef>
              <a:spcAft>
                <a:spcPts val="601"/>
              </a:spcAft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Revisar y comparar los resultados de las encuestas origen destino de viajes y el uso de suelo de Santiago de los años 1991 y 200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180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rchivos adjuntos 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667440" indent="-155160">
              <a:spcBef>
                <a:spcPts val="601"/>
              </a:spcBef>
              <a:spcAft>
                <a:spcPts val="601"/>
              </a:spcAft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Informe Final EOD 2001 de Santiag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667440" indent="-155160">
              <a:spcBef>
                <a:spcPts val="601"/>
              </a:spcBef>
              <a:spcAft>
                <a:spcPts val="601"/>
              </a:spcAft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Información de uso de suelo, hogares, vehículos, habitantes y viajes generados por comuna, años 1991 y 2001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389880" indent="-18072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0720" indent="-180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ija 10 comunas de Santiago y busque en </a:t>
            </a:r>
            <a:r>
              <a:rPr b="0" lang="es-CL" sz="2400" spc="-1" strike="noStrike">
                <a:solidFill>
                  <a:srgbClr val="8dc765"/>
                </a:solidFill>
                <a:latin typeface="Gill Sans MT"/>
              </a:rPr>
              <a:t>www.portalinmobiliario.com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el precio de arriendo de un departamento de aproximadamente 80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 Discuta sobre la distribución de precios teniendo en cuenta los conceptos de uso de suelo vistos en clas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 acuerdo a su experiencia y a los datos entregados, ¿cómo ha variado el uso de suelo entre los años 1990 y 2001? ¿Qué fenómenos pueden explicar las variacion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¿Cómo es la distribución horaria de los viajes en un día laboral normal? Coment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dentifique períodos relativamente homogéneos en cuanto a volumen de viajes, en particular señale el o los horarios que usted asociaría a períodos punt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 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Analice la evolución del número de hogares y la tasa de motorización a nivel comunal entre los años 1991 y 2001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nalice evolución de la generación de viajes entre el año 1991 y el 2001 a nivel comun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dentifique alguna relación entre variaciones de uso de suelo o variables socioeconómicas y generación y atracción de viaj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_apellido3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01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un breve informe con el desarrollo del taller y un archivo .xls con los cálcul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Felipe Murcia</cp:lastModifiedBy>
  <dcterms:modified xsi:type="dcterms:W3CDTF">2010-08-25T17:54:15Z</dcterms:modified>
  <cp:revision>39</cp:revision>
  <dc:subject/>
  <dc:title>Taller I CI43A</dc:title>
</cp:coreProperties>
</file>